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A01-1B05-4C5E-AEB5-3D69A343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47A-9996-4379-B470-DEBB60B0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3BF-A100-4334-8FB2-F1FAA8D6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816-2F14-4D59-BB37-EAD03B58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88FF-E2CB-441D-B687-73BD782E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0608-0430-435C-B228-14C47882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E7EC-9B8B-486F-B0FA-0AD97977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2F5-3B07-411A-9482-7CDA430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3231-88DC-431F-A0EA-536F819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0850-D623-4047-91CB-E6356B4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792F-685B-42F4-B437-0A289DB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456-D5DB-4955-8EC4-09EDCCB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DA0-6FEC-4113-BFE1-C631E36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2AE-B2FA-4DB4-B6E3-75252F09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71B-5C9C-4E3B-ACC8-6EFB156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495-4951-4E51-A6CD-FB6B0139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199-61E6-43E8-834E-1E6E83C3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BA6-B57D-4339-AAF8-DB429941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123-C8A9-4028-AE0D-1B449FD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316-4829-4BD8-91E8-B6205B9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3FD-6478-412A-B6E0-6FA616D4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E1F-4FCA-4860-8CDE-4FA2C1AA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056-7B95-4DCE-8853-10E2AC03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0F0-5FA5-46BB-BCCB-F16A674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D6B-E55E-4581-B8FC-0A70B990DF0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7C7-CEF4-42A9-8C66-2DC7852109F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12200" y="685800"/>
            <a:ext cx="63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mondiaux : quelques rep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81080"/>
            <a:ext cx="63244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u niveau des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ys d’accueil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es IDE, les pays développés représentent encore une part de 60%, contre 36% pour les pays en voie de développement et 4% pour les pays en transition (Ex-Union Soviétique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 ce qui concerne les pays en développement, c’est l’Asie qui concentre la part du lion, puisqu’elle accueille 50% des IDE orientés vers les pays en développement (165 milliards de $). Tout le monde a à l’esprit les énormes investissements réalisés en Chine ces dernières anné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 2005 cependant, les IDE ont progressé énormément au Moyen-Orient (+85%) et en Afrique (+78%), attirés surtout par les ressources naturelles : pétrole, gaz, mines. Mais la part de l’Afrique reste minime : 31 milliards $ représentant 3,3% des IDE mondiaux. De plus la moitié des investissements réalisés en Afrique se font dans les pays producteurs de pétrole : Algérie, Egypte, Guinée équatoriale, Tchad, Mauritanie, Soud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05840" y="685800"/>
            <a:ext cx="80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élocalisations : les secteurs selon les destin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05120"/>
            <a:ext cx="571500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atiquement tous les secteurs industriels seraient touchés par les délocalisations, même si l’ampleur de ce phénomène varie d’un secteur à l’aut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s délocalisations vers les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ys à bas salaires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eraient nombreuses dans les secteur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’habillement, textile, l’électronique et les industries des équipements du foy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ers les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ays développés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les « délocalisations » concerneraient surtout des secteurs très concentrés, où agissent de grands groupes multinationaux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utomobile, aéronautique, pharmacie, électron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760" y="787320"/>
            <a:ext cx="69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s délocalisations de la France vers les pays développ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560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9560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57531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39320" y="73836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les secteurs dans les pays en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560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4641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19160" y="738360"/>
            <a:ext cx="74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élocalisations : certaines zones plus touch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 d’autres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55520" y="1874880"/>
            <a:ext cx="80884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65160" y="1919160"/>
            <a:ext cx="8178840" cy="4938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19160" y="738360"/>
            <a:ext cx="74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élocalisations : certaines zones plus touché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 d’autre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73836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délocalisations : CSP des emplois concer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5638680" cy="5479920"/>
          </a:xfrm>
          <a:prstGeom prst="rect">
            <a:avLst/>
          </a:prstGeom>
          <a:ln w="0">
            <a:noFill/>
          </a:ln>
        </p:spPr>
      </p:pic>
      <p:pic>
        <p:nvPicPr>
          <p:cNvPr id="190" name="Lognoirtext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1430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79680" y="63324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délocalisations de service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e nouvelle menac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905120"/>
            <a:ext cx="152388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es centres d’appels et les centres de services partagés : un enjeux limité en emplois pour la France mais en plein mou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lus inquiétant : le départ des centre de dé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centreappels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556272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3840" y="45720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IDE dans le secteur automobi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 France - P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560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23920" y="8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filiereauto" descr=""/>
          <p:cNvPicPr/>
          <p:nvPr/>
        </p:nvPicPr>
        <p:blipFill>
          <a:blip r:embed="rId2"/>
          <a:stretch/>
        </p:blipFill>
        <p:spPr>
          <a:xfrm>
            <a:off x="2209680" y="1523880"/>
            <a:ext cx="50961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3840" y="45720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s IDE dans le secteur automobi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 France - P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560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3920" y="8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242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auto_prod_eu_fr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4086360" cy="4724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676520" y="2514600"/>
            <a:ext cx="1523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a production européenne en 200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en milliers de véhicules particuliers et utilit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9560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toutspaysautom" descr=""/>
          <p:cNvPicPr/>
          <p:nvPr/>
        </p:nvPicPr>
        <p:blipFill>
          <a:blip r:embed="rId1"/>
          <a:stretch/>
        </p:blipFill>
        <p:spPr>
          <a:xfrm>
            <a:off x="1695600" y="885960"/>
            <a:ext cx="5752800" cy="5086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5560" y="30492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mondiaux : quels impac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21932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gique d’investissement et retour des bénéfices dans le pays d’origine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056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0920" y="1981080"/>
            <a:ext cx="57625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ognoirtext" descr=""/>
          <p:cNvPicPr/>
          <p:nvPr/>
        </p:nvPicPr>
        <p:blipFill>
          <a:blip r:embed="rId1"/>
          <a:stretch/>
        </p:blipFill>
        <p:spPr>
          <a:xfrm>
            <a:off x="228600" y="510552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153280" y="22860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5960" y="228600"/>
            <a:ext cx="56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et la R&amp;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e menace certa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ue à l’accélération du proces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056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6934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3049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15960" y="228600"/>
            <a:ext cx="56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et la R&amp;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e menace certa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ue à l’accélération du proces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539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5560" y="30492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mondiaux : quels impac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21932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gique d’opportunité et accroissement de la compétitivité du groupe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056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00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00400" y="1914480"/>
            <a:ext cx="53434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45560" y="30492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mondiaux : quels impac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12193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 balance commerciale : impact positif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056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00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060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37_02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5638680" cy="321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57600" y="17524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es exportations de groupes industriels français : relations intra-groupe et ex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2622600"/>
            <a:ext cx="10065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À l’intérieur des branch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haque euro d’IDE français est ainsi associé à un excédent commercial de 30 c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supérie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ux im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8960" y="53352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IDE étrangers en France : quels impac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2193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’emploi au bénéfice des ID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0560" y="11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00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060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05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7619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Lognoirtext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153280" y="15228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0" y="762120"/>
            <a:ext cx="66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délocalisations : des enjeux limit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ns l’indus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981080"/>
            <a:ext cx="632448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la pério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-200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es délocalisations auraient touché un nombre limité d’emplois dans l’industrie franç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oyenne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500 emplo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raient été délocalisés chaque anné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5 % de l’emploi industr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encor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% des « fortes » réductions d’effectif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Aubert et P. Sillard (2005)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« Délocalisations et réductions d’effectifs dans l’industrie française »,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de travail de la DESE, Inse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 2005/03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91120" y="657360"/>
            <a:ext cx="69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délocalisations : une mesure dé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876320"/>
            <a:ext cx="68580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hiffrage actuel ne constitue qu’une estimation. La méthode utilisée ne permet en effet de repérer que des </a:t>
            </a:r>
            <a:r>
              <a:rPr b="1" i="1" lang="fr-FR" sz="18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présomptions</a:t>
            </a:r>
            <a:r>
              <a:rPr b="0" i="1" lang="fr-FR" sz="18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élocalisation, les cas avérés n’étant pas détectables à partir des données statistiques disponib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éthode se fonde sur l’observation concomita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une diminution d’effectifs (ou fermeture) en France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une augmentation des importations par le groupe du même type de bien qui était auparavant produit en Fr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e s’agit pas d’un « bilan » ni de l’impact du phénomène de délocalisation sur l’emploi industriel français. On ne s’intéresse qu’aux réductions d’effectifs qui seraient dues à des délocalisations, sans prendre en compte les délocalisations qui ont lieu </a:t>
            </a:r>
            <a:r>
              <a:rPr b="0" i="1" lang="fr-FR" sz="18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ver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rance. Par ailleurs, il faut considérer aussi les emplois induits par ces délocalisations (sous-traitanc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17400" y="657360"/>
            <a:ext cx="62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délocalisations : les dest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876320"/>
            <a:ext cx="6858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s à bas salair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ésenteraient un peu moins de la moitié des destinations de délocalis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mi ces pays, la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tuerait la principale destination, loin devant l’Europe de l’Est, l’Afrique du Nord (Maroc et Tunisie), l’Amérique du Sud (principalement le Brésil) et les autres pays d’Asi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élocalisations seraient donc un peu plus nombreuses à destination d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s développé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tamment d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s limitroph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rance et de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ts-Un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ans ce cas, le phénomène de « délocalisation » s’inscrit surtout dans un cadre d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ucturat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grands groupes multinationau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hérence avec cette logique, une délocalisation semble s’opérer le plus souvent par filialisation dans les pays industrialisés et par sous-traitance dans les pays à bas coû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5272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Lognoirtext" descr=""/>
          <p:cNvPicPr/>
          <p:nvPr/>
        </p:nvPicPr>
        <p:blipFill>
          <a:blip r:embed="rId1"/>
          <a:stretch/>
        </p:blipFill>
        <p:spPr>
          <a:xfrm>
            <a:off x="228600" y="515304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153280" y="47520"/>
            <a:ext cx="68580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7400" y="657360"/>
            <a:ext cx="62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 délocalisations : les dest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05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762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8:55:57Z</dcterms:created>
  <dc:creator>collaborateurs</dc:creator>
  <dc:description/>
  <dc:language>en-US</dc:language>
  <cp:lastModifiedBy>Rizoulieres</cp:lastModifiedBy>
  <dcterms:modified xsi:type="dcterms:W3CDTF">2006-12-11T19:19:12Z</dcterms:modified>
  <cp:revision>67</cp:revision>
  <dc:subject/>
  <dc:title>Observatoire de la qualité publique PACA</dc:title>
</cp:coreProperties>
</file>